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10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move the slide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11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12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F58E30A-5746-4CEE-A0FC-5C41A55F2DF9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7206C0E-3085-4332-A604-651807FE7A4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1446193-0E99-4D8A-9853-F89006AF96B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831C176-E09E-4AB1-ACBA-9AF94A5FBF5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4B04-C236-4FA2-841A-C6A0FA768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8673-775F-4AEE-9DF7-767E5437A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A999-BC69-4252-B018-6BEE47619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B1EA-1E1C-4188-BE67-41C4D5970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20400-688B-4EED-80FC-0440D585A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A94D6-35D8-497D-A59E-0D90EB053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5C6A2-2598-4728-8FC4-13BE17AAC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E378E-458F-4CFA-A934-D03BB7A6A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98CB8-93A5-401D-ADED-ACE5662A0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91F06-C4F4-404C-AA81-110FBCBE9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71A73-DEC6-4A05-A770-54305C2D6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98B8-39FB-4546-9D5A-2610D356E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B908D-87A2-48E9-BF50-D58330FBB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BC70C-13BD-4F7D-8D51-AE5C25459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6900C-8009-4352-920A-761377894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60D36-D301-463E-9E51-A2D1233C1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24C3F-EB08-4384-B8B2-E917BD757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9A264-59BB-4D65-A2C2-E8CAD6E46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89D90-C6DF-4A61-A7C8-173D68DD2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34782-2F42-4ED5-AB39-47BC87F89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93E1C-F711-449B-95D6-16BEB17F8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08066-CFA5-4BD2-B410-D1101F6C6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B690-6CE4-4C68-93F2-FF4ED7CDE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57BCD-A0F2-4EBB-89D4-E694395D0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4B372-8DAA-43BB-A3E0-2DCAC47B9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F29D9-F386-4EA8-A7D1-D6D4DD1B4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6CEDF-D9CB-4149-AD63-42E0D3369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EE4E4-E3D3-4A4B-AACC-5D9B1FE25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B3E8D-F73F-4A87-AEAB-08784E677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E175D-323C-4713-AE06-7A368E102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E200-312F-4640-8674-761FF18E8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9133-C0A4-4F24-AA4A-9A1380E78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CCC1-8D40-4AC4-89AA-FE5C2E866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BFCC-9C7A-4E80-80FB-261AC187F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E54F-BBFA-4CAD-8621-D0FB024C8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0A40-50BB-4AFF-8913-C8213DF1B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6b727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A934FB-B952-4488-AEE8-0E85EF476A9A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a6b72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Straight Connector 7"/>
          <p:cNvSpPr/>
          <p:nvPr/>
        </p:nvSpPr>
        <p:spPr>
          <a:xfrm>
            <a:off x="1484280" y="3733920"/>
            <a:ext cx="6172200" cy="0"/>
          </a:xfrm>
          <a:prstGeom prst="line">
            <a:avLst/>
          </a:prstGeom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0398FF-8973-4199-88C9-96546D2CDAF3}" type="slidenum">
              <a:rPr b="0" lang="en-US" sz="10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Straight Connector 6"/>
          <p:cNvSpPr/>
          <p:nvPr/>
        </p:nvSpPr>
        <p:spPr>
          <a:xfrm>
            <a:off x="1486080" y="4021200"/>
            <a:ext cx="6172200" cy="0"/>
          </a:xfrm>
          <a:prstGeom prst="line">
            <a:avLst/>
          </a:prstGeom>
          <a:ln w="10080">
            <a:solidFill>
              <a:srgbClr val="a6b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6b727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BE8730-49D1-480C-91AF-7491C69224DF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1600200"/>
            <a:ext cx="754380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APLICABLES</a:t>
            </a:r>
            <a:r>
              <a:rPr b="1" i="1" lang="es-ES_tradnl" sz="2400" spc="-1" strike="noStrike">
                <a:solidFill>
                  <a:srgbClr val="a6b727"/>
                </a:solidFill>
                <a:latin typeface="Corbel"/>
              </a:rPr>
              <a:t> 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Tasa General: 21 %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 algn="just">
              <a:lnSpc>
                <a:spcPct val="2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Tasa del 27 % 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Ventas y prestaciones originadas en la provisión de gas, energía eléctrica y aguas reguladas por medidor, y servicios de  telecomunicaciones, cuando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 </a:t>
            </a: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la venta o prestación se efectúe fuera de domicilios destinados a vivienda, terrenos baldíos o casas de recreo o veraneo, y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el adquirente o prestatario sea Resp. Inscripto, o Monotributista.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El P.E. puede reducir hasta 25% estas alícuotas.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7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A8A688-9702-4D82-9776-78E66C78CC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838080" y="68580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NUEVO RÉGIMEN ESPECIAL DE DEVOLUCION DE DETERMINADOS CREDITOS FISCALES (cont)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Árt. 24.2. de la ley de IVA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Empresas de servicios públicos con subsidios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Lo asimila a CF por exportación (devolución)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Por compra, fabricación, elaboración o importación definitiva de bs (excepto automotores) y por importación de obras o de servicios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Límite de la devolución. Comparación IVA operación vs. IVA que correspondería si el subsidio estuviera alcanzado con IVA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Art. 24.2 de la ley de IVA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Empresas de radiodifusión, editoras y distribuidoras. 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Cómputo como crédito fiscal de las contribuciones patronales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8" name="Marcador de número de diapositiva 3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974AA5-353D-4283-9D42-89FA143AAD2F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280" y="1628280"/>
            <a:ext cx="76201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2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50560" y="2133360"/>
            <a:ext cx="856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800" spc="-1" strike="noStrike">
                <a:solidFill>
                  <a:srgbClr val="a6b727"/>
                </a:solidFill>
                <a:latin typeface="Corbel"/>
              </a:rPr>
              <a:t>REGIMENES DE RETENCIÓN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 u="sng">
                <a:solidFill>
                  <a:srgbClr val="a6b727"/>
                </a:solidFill>
                <a:uFillTx/>
                <a:latin typeface="Corbel"/>
              </a:rPr>
              <a:t>General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854 (AFIP)  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Compras de cosas muebles, locaciones y prestaciones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 u="sng">
                <a:solidFill>
                  <a:srgbClr val="a6b727"/>
                </a:solidFill>
                <a:uFillTx/>
                <a:latin typeface="Corbel"/>
              </a:rPr>
              <a:t>Especiales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3744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de granos no destinados a la siembra), legumbres seca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393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caña de azúcar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394 (AFIP)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algodón en bruto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1105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Honorarios profesionales pagados vía judicial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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2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52D63B-32CC-4309-8E29-A48F0E235D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6960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4360" y="2204640"/>
            <a:ext cx="7696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- Cont.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Otras Resoluciones Generales y sus modificaciones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130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(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DGI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Proveedores de servicios público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575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Facturas tipo “M”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40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Sist. de tarjetas de crédito y/o compr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363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(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AFIP) 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Compraventa de miel a granel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029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 Instituciones bancaria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428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de leche fluida sin procesar para ganado bovin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686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de equinos para faen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774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– Compraventa de lana suci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6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5AD061-8291-4CF7-977A-A68B1D8CEA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4674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800" spc="-1" strike="noStrike">
                <a:solidFill>
                  <a:srgbClr val="a6b727"/>
                </a:solidFill>
                <a:latin typeface="Corbel"/>
              </a:rPr>
              <a:t>REGIMENES DE PERCEPCIÓN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Generales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408 (AFIP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Ventas de cosas muebles, locaciones y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prestacione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937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–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Importacione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126 (AFIP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Ventas a sujetos no categorizados en el IV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Especiales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873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–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Producción y comercialización de haciendas y carnes bovinas y bubalina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820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-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Ventas de gas licuad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603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cheques de pago diferid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459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– Operaciones de canje de grano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0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90CB11-B1DE-4EA0-A55B-11603D14AB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1600200"/>
            <a:ext cx="769644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440" y="2666520"/>
            <a:ext cx="7846920" cy="39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G 2226 AFIP. Requisitos a la fecha de la presentación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Saldo a favor de libre disponibilidad en la DDJJ del período inmediato anterior al momento de la solicitud, equivalente como mínimo al 20% del promedio del impuesto determinado en las ddjj del IVA que se mencionan en el punto 2)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s DDJJ IVA por los 12 meses vencidos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s DDJJ SUSS por los 12 meses vencidos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 última DDJJ Ganancias, IGMP y Bs. Personales vencida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No registrar deuda líquida y exigible por las obligaciones de los puntos 2) y 4)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Caída del Certificado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4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B60E68-67CF-4092-9F60-0D469C19A4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7543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76212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3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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Momento para la presentación: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En cualquier mes calendario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novación: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Con una antelación máxima de 30 días corridos a la finalización de la vigencia del beneficio anteriormente otorgado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Forma de tramitación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A través de la página web de la AFIP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8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1BAEE0-D676-4E6E-B81C-780FCF0AE9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7543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 – Cont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762120" y="2209680"/>
            <a:ext cx="7842240" cy="42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64160" indent="-130680">
              <a:lnSpc>
                <a:spcPct val="2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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solución de la solicitud – Procedimiento automático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3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Dentro de los 15 días corridos contados desde la interposición de la solicitud o la presentación de la documentación requerida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Publicación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En la página web de la AFIP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Características de la exclusión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Se otorga por períodos mensuales completos. Vigencia máxima: 6 meses contados desde el primer día del mes inmediato siguiente a aquél en el cual fue resuelta favorablemente la solicitud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2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0DD113-126F-4A7A-9D7C-5D530501C8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1066680" y="3200400"/>
            <a:ext cx="73915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Casos especiales: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Inicio de actividade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Reorganización de sociedade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Modificación de la situación tributaria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Adquisición de equipamientos, reequipamiento o inversión en nuevos proyecto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5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A7E186-CD33-494F-8AAF-644CB47345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762120" y="2057400"/>
            <a:ext cx="73152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899640" y="1988640"/>
            <a:ext cx="7488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 u="sng">
                <a:solidFill>
                  <a:srgbClr val="a6b727"/>
                </a:solidFill>
                <a:uFillTx/>
                <a:latin typeface="Corbel"/>
              </a:rPr>
              <a:t>Bibliografía 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24/1996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onstrucción de viviendas 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6/1999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apitalización de hacienda y servicios de pastaje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73/1999 (DAT)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: Nivelación de suelo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4/2000 (DAT)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: Construcción de hotel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59/2002 (DAL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onsignatarios de hacienda. Comisiones y flet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1/2003 (DAT):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Plantin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52/2003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Fletes e interes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9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EEFEE3-74CB-4536-8B6B-E4EAF5AEA1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Rectangle 1028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477A5D-97BE-4A8D-9195-F78EF45BB1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928800" y="2071800"/>
            <a:ext cx="7488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 u="sng">
                <a:solidFill>
                  <a:srgbClr val="a6b727"/>
                </a:solidFill>
                <a:uFillTx/>
                <a:latin typeface="Times New Roman"/>
              </a:rPr>
              <a:t>Bibliografía (Cont.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78/2005 (DAT): Construcción de viviendas. Movimiento de suelos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29/2007 (DAT): Agropecuario. Análisis de humedad y fertilidad del suelo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21/2009 (DAT): Carpintería metálica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48/2004 (DAT), modificado por el Dictamen 18/2012 (DAT): Intereses por financiación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Fallo Corte, Rectificaciones Rivadavia, 2011: Compensación Imp. Bs. Personales Resp. Sustituto. A favor. Posterior prohibición de la RG (AFIP) n° 3175 (CNACAF “Cresud”4.10.18 e “IRSA” 8.8.2018)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1523880"/>
            <a:ext cx="769644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APLICABLES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 reducida del 10,5 %</a:t>
            </a:r>
            <a:r>
              <a:rPr b="1" lang="es-ES_tradnl" sz="2100" spc="-1" strike="noStrike">
                <a:solidFill>
                  <a:srgbClr val="a6b727"/>
                </a:solidFill>
                <a:latin typeface="Corbel"/>
              </a:rPr>
              <a:t> :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Animales vivos de ganado bovino, ovino, porcino, aviar y cunícula, camélidos y caprinos;  carnes y despojos comestibles de dichos animales, frutas, legumbres y hortalizas, miel a granel, granos y legumbres secas, cuero bovino, harina de trigo, pan, galletas y otros productos de panadería y/o pastelería sin envasar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Ciertas locaciones de obra o de servicios vinculados con la obtención de algunos de los bienes citados precedentemente (labores culturales, siembra, plantación, cosecha, aplicación de agroquímicos)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Trabajos realizados en inmuebles propios o de terceros, destinados a vivienda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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E44797-2192-4FB0-8FB7-C50A34A39B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C68BA7-FFD3-4B32-8868-C417D23B78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928800" y="2071800"/>
            <a:ext cx="7488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 u="sng">
                <a:solidFill>
                  <a:srgbClr val="a6b727"/>
                </a:solidFill>
                <a:uFillTx/>
                <a:latin typeface="Times New Roman"/>
              </a:rPr>
              <a:t>Bibliografía (Cont.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FM Comercial, CSJN 14/06/2001. La CSJN convalidad la transferencia prevista en la LIVA ante la falta de reglamentación de la AFIP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Bufete Industrial Argentina. CSJN 6.3.2014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160" y="1413000"/>
            <a:ext cx="7848360" cy="720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(Continuación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2285640"/>
            <a:ext cx="81532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6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5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C625D8-D8F8-4FE2-9E2E-2E6A496B59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500040" y="2214720"/>
            <a:ext cx="828036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Times New Roman"/>
              </a:rPr>
              <a:t>Tasa reducida 10,5 %  -  cont.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Intereses y comisiones bancarias locales o del exterior que cumplan Std. Basilea, cuando el tomador revista la condición de Responsable Inscripto en el IV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Transporte de pasajeros no alcanzado por la exención art. 7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Asistencia médica y paramédica que brinden o contraten las cooperativas, mutuales y empresas medicina prepag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Bienes de capital (incluidos en Anexo art. 28 inc. e) Ley IVA)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Otros bienes (incluidos en Anexo art. 28 inc. f) Ley IVA)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Venta diarios, revistas, publicaciones periódicas. La producción editorial (según facturación) puede tener alícuotas del 5 % o 2,5%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Fertilizantes químicos para uso agrícol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Otros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1523880"/>
            <a:ext cx="7696440" cy="6098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761760" y="2438280"/>
            <a:ext cx="75438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Saldos a favor en el IVA: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0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7E78BB-CA44-489E-BD6C-864423B16C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151" name="Object 4"/>
          <p:cNvGraphicFramePr/>
          <p:nvPr/>
        </p:nvGraphicFramePr>
        <p:xfrm>
          <a:off x="609480" y="3143160"/>
          <a:ext cx="7162920" cy="347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143160"/>
                    <a:ext cx="7162920" cy="347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Rectangle 5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1752480"/>
            <a:ext cx="746784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- UTILIZACION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sponibilidad de los saldos:</a:t>
            </a: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800" spc="-1" strike="noStrike" u="sng">
                <a:solidFill>
                  <a:srgbClr val="a6b727"/>
                </a:solidFill>
                <a:uFillTx/>
                <a:latin typeface="Corbel"/>
              </a:rPr>
              <a:t>Saldo                           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800" spc="-1" strike="noStrike" u="sng">
                <a:solidFill>
                  <a:srgbClr val="a6b727"/>
                </a:solidFill>
                <a:uFillTx/>
                <a:latin typeface="Corbel"/>
              </a:rPr>
              <a:t>Disponibilidad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écnico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stringida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 disponibilidad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Exportaciones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6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ED753B-57F7-4169-B788-FFFABD6406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Line 4"/>
          <p:cNvSpPr/>
          <p:nvPr/>
        </p:nvSpPr>
        <p:spPr>
          <a:xfrm>
            <a:off x="2819520" y="48769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Line 5"/>
          <p:cNvSpPr/>
          <p:nvPr/>
        </p:nvSpPr>
        <p:spPr>
          <a:xfrm>
            <a:off x="4114800" y="5334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Line 6"/>
          <p:cNvSpPr/>
          <p:nvPr/>
        </p:nvSpPr>
        <p:spPr>
          <a:xfrm>
            <a:off x="3505320" y="57913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746748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- UTILIZACION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914040" y="2819160"/>
            <a:ext cx="74674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62720" indent="-129600">
              <a:lnSpc>
                <a:spcPct val="7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Destino de los saldos de libre disponibilidad: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Compensación o acreditación  (RG AFIP Nº 1658). </a:t>
            </a: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(efecto desde presentación o subsanación, suspensión 45 días, control sistémico, sujeto a verificación conf. art. 16 LPT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Devolución (RG DGI Nº 2224)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300" spc="-1" strike="noStrike">
                <a:solidFill>
                  <a:srgbClr val="a6b727"/>
                </a:solidFill>
                <a:latin typeface="Corbel"/>
              </a:rPr>
              <a:t>(</a:t>
            </a: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efecto desde la presentación o subsanación, suspensión 45 días, no existencia de deuda líquida o exigible que puede ser compensada previamente, no es repetición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Transferencia (RG AFIP Nº 1466).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Requisitos: a) existencia y legitimidad; b) no registro de deudas líquidas y exigibles; c) detracción del SAF en la última DDJJ IVA. Intereses desde la presentación o subsanación hasta la notificación de habilitación de la transferencia. Acto administrativo. Apelación. Responsabilidad solidaria (alcance). Normas transitorias (retroactividad, inconstitucionalidad Fallo CSJN Saiz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3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B593CC-3416-4E9A-B452-EF97AD0E9B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543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4000" y="227628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600" spc="-1" strike="noStrike">
                <a:solidFill>
                  <a:srgbClr val="a6b727"/>
                </a:solidFill>
                <a:latin typeface="Corbel"/>
              </a:rPr>
              <a:t>Saldos Técnicos.  Otras situaciones especiales que permiten la disponibilidad del saldo:</a:t>
            </a: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Fabricantes o importadores de bienes de capital alcanzados con alícuota reducida de IVA (10,5%) (RG AFIP Nº 1168).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Fabricantes o importadores de fertilizantes químicos para uso agrícola (10,5%) (RG AFIP Nº 2125).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5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7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A13689-C4D7-4971-B0C6-BD58059D23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543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4000" y="227628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000" spc="-1" strike="noStrike">
                <a:solidFill>
                  <a:srgbClr val="a6b727"/>
                </a:solidFill>
                <a:latin typeface="Corbel"/>
              </a:rPr>
              <a:t>ARTICULO 8º — Responsables en forma personal y solidaria con los deudores del tributo. Responden con sus bienes propios y solidariamente con los deudores del tributo y, si los hubiere, con otros responsables del mismo gravamen, sin perjuicio de las sanciones correspondientes a las infracciones cometidas: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609480" indent="-60948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000" spc="-1" strike="noStrike">
                <a:solidFill>
                  <a:srgbClr val="a6b727"/>
                </a:solidFill>
                <a:latin typeface="Corbel"/>
              </a:rPr>
              <a:t>g) Los cedentes de créditos tributarios respecto de la deuda tributaria de sus cesionarios y hasta la concurrencia del importe aplicado a su cancelación, si se impugnara la existencia o legitimidad de tales créditos y los deudores no regularizan su situación fiscal dentro de los quince (15) días de la intimación administrativa de pago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5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3DC438-EF47-46F0-B8FF-218273BAF6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447560"/>
            <a:ext cx="7543800" cy="75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2400" spc="-1" strike="noStrike">
                <a:solidFill>
                  <a:srgbClr val="a6b727"/>
                </a:solidFill>
                <a:latin typeface="Corbel"/>
              </a:rPr>
              <a:t>NUEVO RÉGIMEN ESPECIAL DE DEVOLUCION DE DETERMINADOS CREDITOS FISCAL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11280" y="2421000"/>
            <a:ext cx="77724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Art. incorporado a continuación del artículo 24 de la ley del IVA, por la Reforma Tributaria Ley 27430 (B.O. 29/12/2017)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Créditos Fiscales originados en compra, construcción, fabricación, elaboración o importación definitiva de bienes de uso, excepto automóviles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Que hayan generado 6 meses consecutivos de saldos a favor técnico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La devolución realizada por la AFIP, no deberá ser devuelta por el contribuyente, siempre y cuando hubiera generado débitos fiscales superiores a los créditos fiscales, en los siguientes 60 meses posteriores a la devolución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5" name="3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EC54D7-3839-49DD-8ACD-C16766D472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7T10:01:21Z</dcterms:created>
  <dc:creator>Claudio Hernandez</dc:creator>
  <dc:description/>
  <dc:language>en-US</dc:language>
  <cp:lastModifiedBy>MARIA INES GIMENEZ ELISSAMBURU</cp:lastModifiedBy>
  <cp:lastPrinted>2007-05-07T21:52:32Z</cp:lastPrinted>
  <dcterms:modified xsi:type="dcterms:W3CDTF">2024-05-15T02:05:27Z</dcterms:modified>
  <cp:revision>209</cp:revision>
  <dc:subject/>
  <dc:title>SOCIEDADES DE PROFESIONALES  PLANTEO DE LA CUES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ppReportCurrencySymbol">
    <vt:lpwstr>$</vt:lpwstr>
  </property>
  <property fmtid="{D5CDD505-2E9C-101B-9397-08002B2CF9AE}" pid="3" name="WppReportDashboardTitleText">
    <vt:lpwstr>Dashboard</vt:lpwstr>
  </property>
  <property fmtid="{D5CDD505-2E9C-101B-9397-08002B2CF9AE}" pid="4" name="WppReportDate">
    <vt:lpwstr/>
  </property>
  <property fmtid="{D5CDD505-2E9C-101B-9397-08002B2CF9AE}" pid="5" name="WppReportDraft">
    <vt:lpwstr>(Draft)</vt:lpwstr>
  </property>
  <property fmtid="{D5CDD505-2E9C-101B-9397-08002B2CF9AE}" pid="6" name="WppReportIsTocUpdateRecommended">
    <vt:bool>1</vt:bool>
  </property>
  <property fmtid="{D5CDD505-2E9C-101B-9397-08002B2CF9AE}" pid="7" name="WppReportLongPageNumberFormat">
    <vt:lpwstr>Page &lt;#&gt; of &lt;PageCount&gt;</vt:lpwstr>
  </property>
  <property fmtid="{D5CDD505-2E9C-101B-9397-08002B2CF9AE}" pid="8" name="WppReportPropertiesLastWrittenToDocument">
    <vt:filetime>2024-02-28T20:57:54Z</vt:filetime>
  </property>
  <property fmtid="{D5CDD505-2E9C-101B-9397-08002B2CF9AE}" pid="9" name="WppReportShortPageNumberFormat">
    <vt:lpwstr>Page &lt;#&gt;</vt:lpwstr>
  </property>
  <property fmtid="{D5CDD505-2E9C-101B-9397-08002B2CF9AE}" pid="10" name="WppReportTocTitleText">
    <vt:lpwstr>Table of contents</vt:lpwstr>
  </property>
  <property fmtid="{D5CDD505-2E9C-101B-9397-08002B2CF9AE}" pid="11" name="WppReportVersion">
    <vt:lpwstr>Version 1.0</vt:lpwstr>
  </property>
</Properties>
</file>